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  <p:sldId id="267" r:id="rId34"/>
    <p:sldId id="268" r:id="rId35"/>
    <p:sldId id="269" r:id="rId36"/>
    <p:sldId id="270" r:id="rId37"/>
    <p:sldId id="271" r:id="rId38"/>
    <p:sldId id="272" r:id="rId39"/>
    <p:sldId id="27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slide" Target="slides/slide12.xml"/><Relationship Id="rId35" Type="http://schemas.openxmlformats.org/officeDocument/2006/relationships/slide" Target="slides/slide13.xml"/><Relationship Id="rId36" Type="http://schemas.openxmlformats.org/officeDocument/2006/relationships/slide" Target="slides/slide14.xml"/><Relationship Id="rId37" Type="http://schemas.openxmlformats.org/officeDocument/2006/relationships/slide" Target="slides/slide15.xml"/><Relationship Id="rId38" Type="http://schemas.openxmlformats.org/officeDocument/2006/relationships/slide" Target="slides/slide16.xml"/><Relationship Id="rId39" Type="http://schemas.openxmlformats.org/officeDocument/2006/relationships/slide" Target="slides/slide17.xml"/><Relationship Id="rId40" Type="http://schemas.openxmlformats.org/officeDocument/2006/relationships/slide" Target="slides/slide1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B657A-1CEE-40E9-B7C9-8085C8DBE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3B188-A393-4454-B446-B366D2B87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4ACB5A-72F2-4C00-8696-BF1C40260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55EA47-C105-4257-B9F6-C20065836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447C69-7373-4C94-93F2-D06ABC8C4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DBA110-D35E-4A87-A2B4-9E187B46A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84DADF-D28C-4145-8121-C48C138EB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60BF26-4357-4A76-A8C2-EED087B3E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08487D-79E5-4583-9F10-537DAB5A5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6DA806-11CB-4520-B10D-4FDAC675A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FB387F-81D2-495B-A3B6-AF5F3A915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98A226-A2AD-46A1-9296-DC5C3F671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55726-AE8E-4F28-BA26-C0B35E4BF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57FD86-BC3E-4884-AD60-C6C427CC5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A27C85-C1A3-4D21-A6E7-C327C3A25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B4795D-6A13-401D-B1B6-C14D52916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2C23C4-84A6-4776-96D4-ED32052B9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E4C329-5E24-438C-862D-622C24384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2D94E5-F081-4EC8-BE7E-A8F295721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0A53CD-C7CA-45E2-86C0-B281D9841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B02F67-D3AA-4872-894B-5CFB898A1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313C16-4EFB-4A35-BCA4-E21923440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5248F6-160A-42F5-84F9-7432974E8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152C3-7ACF-4245-8C58-0396F8825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122045-68A0-4E5B-A7B9-6933E3034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9F92CC-DC1E-412E-9E3B-770220DD7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1733BE-69BB-4E86-B47F-64B82D85F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803C30-A19A-4930-A02A-6F1584ABB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B7C0BB-667A-4A96-B932-A57C381FB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4652DA-CED9-4EBA-873C-C5A3FDE51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0665D9-E1E3-4076-AFCE-A91A8856D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C57CA2-EAAE-4B44-A615-98B4E14C0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46F551-1943-4797-A912-C9B29049F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A65CA3-A19F-43DC-BDF1-65894A452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8FAEB-D919-4D88-9046-67CDB7136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DE26FA-595C-423B-AD0B-D619D38B2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4D36A4-0A88-4888-8371-8451EC168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E6F570-D3E6-41B3-9A01-8A43E1A1C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F2BAFC-6EDA-4975-AD1A-84117788C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73C8B6-C9EF-46DA-99B1-43D2B89A5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A6C35A-DC13-41FE-BC8C-8479FBA0A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57E2CA-0E67-40A0-80E4-471028E96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F0DB11-5107-46BC-98F5-1BBC7B82A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A4BD42-E700-4297-82AE-5F639132C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A037F4-D06B-4778-8ADF-BA1C1DD01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98E01-14E5-4A29-8D3D-9FA2DA2B0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DFDF23-E68F-4F42-8CD7-2AA0DF2A4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CFBD7B-BA0E-4F45-8D67-60B0990E4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D16C69-FA96-4899-93C5-5639A37B4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7BE4CF-24ED-4978-98ED-7BC074A32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53C646-8E6E-4435-8DBA-979CA4E38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E056FB6-84B2-4B4E-A7DD-B22666A10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A493086-CDAA-4ACC-9303-A8834B043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16EA15B-A816-4752-BDEA-122909379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4917CFE-03FF-4003-807D-1D50B178A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4611287-D568-4217-BDB8-6B54BD02D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49881-B2A4-4618-84E5-F30017A2E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622DB74-096A-4D11-A6FE-8F0011941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414BB55-8863-47D9-9266-2BDB222E9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29FBD58-EC06-41A4-A9B5-2EA63A654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ED1EA23-99E6-43C0-B967-ABCFBFCE4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3A5FFFC-3DCD-41AB-9873-7F4F6529D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369F388-6305-4397-869A-1C2A364AE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AE1603B-20A1-4C38-AA49-FB5861037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ADD517F-9B01-4A88-8363-8CD0C9E6A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76DF01F-38CC-4DAE-AEB2-D7882EF12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8F2C6F2-560C-4CE2-85D2-E14AAC599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634B7-3ED5-496B-B57E-F31A7B336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D60F36B-4628-4239-B4C4-84F98F536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23A8D99-CD9A-4269-B530-F51DA7C72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BB451E5-AD87-4431-87D8-B247DFCE8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27673F2-C3B5-4DAD-9F02-8B85979A6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AB25B89-11DE-4A5D-8A92-B5D652463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0DE51BC-CFBD-4546-B501-E9D86C3EB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7441835-2C98-44D7-A796-40337ECE0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E3A702B-998E-4838-B728-38A504A92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82FB140-2EA8-4CB1-B6B3-0670E73F0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3097A3E-5EA9-4249-B107-5EF854503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939F9-4DDC-42E8-A090-8C88246D6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4729C7A-BF48-49EC-9093-20D52C549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25E2C0E-E473-4914-8B23-2FBC29E6C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BAA77E5-6540-4212-BCB4-48547CC23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9A9B981-43EB-4AB9-86A7-F8B17B515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E85E2CB-BB99-4B94-A756-803B35725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AD25BEC-EF93-4024-ABE8-3A17D9C56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673F7F7-F458-4FF0-A1B3-67EC9546D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E45BC65-7465-45E6-AB6D-23D5A9FF4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338DFCE-C918-4DF6-A796-776CA79A9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D56932B-D445-4453-AB54-6B4D1A8A5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D368D-4F23-4563-93AA-20CC59C10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69D4AE0-4B78-4C2C-BE16-9965F2880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50DBCAE-CA3F-4F22-85E5-E0DA7E993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B95C83A-F8EF-400C-9FD0-F09969D0E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2FCBB4E-AD64-4DE6-937A-27F1309B1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A174030-B87D-410D-B082-722191F6B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9E4D75A-E25B-4407-8667-09ED4FB63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1491BEF-6BC7-4CA4-B87C-DBEB22B69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8DBF00E-99CE-4F53-B9E7-C5EBFFF86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A24419B-1E2D-4A6C-B75C-271275383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7CE4355-F752-48BB-B231-75B94B823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AA90D-2C12-4665-9CF9-8FDE153EE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80F97DB-9A10-4D7F-9691-730FE29A6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F4D63CA-C416-44C4-893D-7022C4875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303C7F8-0EBD-4488-AA96-8CDB58F3C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1905466-6F1D-4830-9853-BFE859F79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666C3D6-98D8-4FE3-B851-9DB7D3452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5FA11AD-95C4-407C-A548-5B472AF42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60BA2BB-48F7-4FEC-B813-900B9E9CF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C470FC3-1439-412E-AD5B-6AF81191B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5A588FD-A45B-4BAD-AF75-EBE489C0B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175D622-364E-4DCA-9C59-346C3EF11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CC257-265A-4C14-A4EC-6E1CA2BFC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D5076-B3D1-4151-9176-C89F1CDA8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D0D6776-4E97-4934-907A-CC1B9AC31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003A980-2FD9-4E81-8C7D-124C577DB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FF5722E-089B-4E1B-A853-6F3E241ED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D931959-DCD5-430C-86B6-CC3ABBED8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619F6B7-371D-43C8-ACCB-7149A0497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654ECFB-83A9-4ACD-B49B-7C9E4CED3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312E963-8AE8-4AC5-BA3E-68CB33BAA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CA1222C-5B15-4365-9182-457C897BC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EEE3FC4-34BE-4693-965F-0954339F6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53182BC-58E8-43AE-BCB9-903CA038E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9581D-446B-46B3-AC5E-BD307DFAD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5C11814-6A0C-4984-842A-4A0B6CA25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C153D3C-28B8-4EA7-B98A-47674B946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B894B70-6056-4A35-9157-ABE155862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0702D06-3FD1-4AD5-B7C0-393EDA9ED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20808FC-EFA5-4D30-8033-4800C01E6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C3C6A23-2B5A-4ACD-9004-402CA717B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414825B-548C-4A31-9C20-8BAAE0F82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4D2998A-921C-4AF1-90C7-B19C2BF6F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56BCD10-11F6-413E-902D-1CC1A7E5B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5088C23-E490-4367-9C80-F1ECDCFA8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B7881-E696-4823-8218-BEC9E7914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AF2A1CB-0362-4253-AA39-BD161E9EC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E68C2DB-EE33-43ED-8520-DAB5984FC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20FF1ED-F476-4FAA-86A8-7DFDA1865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55620DC-2368-4246-BE15-C3FF9999C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8D90641-13BA-4ADB-8011-DF8B98ADD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47CDF82-F16A-4555-B7FD-6633CC8EF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530AC0E-11CE-4E24-B966-8C1483F04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C943383-1CC7-4A42-B206-DD792E1DF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58A0576-B71D-444A-90CE-42E033872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2E70A86-30C2-4E0A-9277-88548FC94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C38A2-DF50-404F-A895-29E3E15D6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F88AC29-E067-40BA-956A-7847AD40D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10509CB-8189-45A9-B70F-8A0C41F5C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F98F4CB-FF60-48A7-9937-A5EBFAC0D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EE58F30-59FE-4211-968C-ECE747F3A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4D8AFF6-24CA-4937-89C5-E06B3753F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9DE6B37-65FD-4450-8A94-B291A1AB3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83DFFBE-4056-436E-ABBA-1DCB393F5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BA70C02-C1B2-4277-B7D2-4E2B09301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E574FD9-FBF5-4787-9371-C9466D9E3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E7C17DA-B3F3-4440-BD95-BAFB9C3E6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7683C-8BFE-489A-98F5-846A6ACCF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F9BB06F-2B78-4DCA-837E-7FB40198A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B3E20AA-13A4-4821-8A7A-FBCF8D49D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B65067E-0064-427A-B6C0-D83A91CE6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618003B-6042-4A5A-A885-8F2F8992E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13086FA-A256-4E84-9C1F-4FB5B05D2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A0B6A39-2461-4BFD-835E-9EEB223E6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8A07F73-35D4-4934-9C66-A83658B7B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C8CADE6-3AC8-4895-84AA-BA456A7AB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312E85F-D281-4EAC-B767-3A3265238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0D64BCD-78CD-4AFD-B5FF-FACB182E5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BB1E95-6D5E-4EC5-A652-24D826DB5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EF3B941-E559-4E25-8882-22E157FEE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19A9239-2129-4715-979F-4BB7BBB55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B1822EC-C4B3-4347-9EE1-4F1A72C9A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2AE364-3CF2-4CA7-AD9D-26AEFAF6F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29B78D-004B-4C51-8A6D-4DEA4FB62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0C0F8D-DD41-426C-A4AF-DAB2B28EC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D3B883-9048-4194-B842-ED21D77CA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0F85E-5C3D-41D9-A6F6-48A4491DA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C0039D-23F3-45B6-BB8B-AD8021B09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178C9D-57FF-45F0-B3C2-A74B7FD6D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E8E58A-58BF-4402-AD70-8F39A801E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52C2B3-CCE1-43CB-8A4D-5829CEA89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2284FB-40DA-41A9-A410-CA4622810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6992E8-3F81-41AE-BC3F-7997AF831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2A287A-2541-43EF-A210-69311579E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7B0EC9-AC76-45FD-BD75-5A6F82AC4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9E23A9-2AC5-4B2F-9A07-09292AC42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D18F98-F6D3-4211-ACBB-FB618EEB3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B7A98-2FD2-4EB0-B447-822424A5F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2BB0AD-A532-45B4-BAE6-9D9D6EFEC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A193DB-8B6C-474F-BBF3-45B5D8130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1AEA45-CA5A-4EBD-AA25-20F60F546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5A5E38-354C-477E-9781-A854577B6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97D7BE-8CF4-4F0C-AF2A-BAD84B341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7D2BB7-B8F8-4405-9B4F-3C1132EE5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1B5694-C23D-4653-A21E-D0625A0A2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18E904-8BA1-4826-8544-F705359A8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2DE838-8314-45E7-890A-1996D1D93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49A085-E40E-4317-AA2C-DDE5FBC9F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A4543-C477-4713-A403-757C769B8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510BED-7669-4C44-8F96-51E679EB9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25716A-F592-4714-ACC5-F499F5769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A5F8EF-3D15-4C3D-8CD2-F9A1044C4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0FF718-1581-40BA-B822-B79B3E873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5375A2-6723-4089-B598-B04319538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177466-3172-4C7E-9B74-91BD653B6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2343C7-A9CA-4F86-86BF-6645BBCBF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32A803-F66F-4757-AEB9-A402240B1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B09F1A-2CA6-4F00-9516-ED7E852EF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DEBF5E-A9D3-4004-8260-32FCB4C89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56810-77D7-463F-B0B3-AC90A6B63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9DAE90-E2E1-4CFD-9E4B-66934EE69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8A1D14-6E7F-4233-9EA9-4E911D869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2D6099-F933-4839-9867-713D2FC3F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C66DB8-02C1-41BA-8AA8-CC1279CBB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8336FE-DC71-41F5-8683-E599AFD00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C73722-9AB3-4C17-8367-18EE5265B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D2C36E-D280-4003-9CF0-B82860788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D61B79-5071-4C1E-8D5C-AB16B6981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951BF4-B1D9-484B-AC63-94AF6C70C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84066D-5DDE-488E-9AD5-B58EFFFCE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CCC81-16D7-4B42-91B1-5BA93B455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0AB17A-65F9-459F-83B8-0AB1F1A4D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A0184A-D526-42E7-8D1C-F8E9892B2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B68D8A-C22B-47AA-949F-171D3B961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02C25C-461B-4B92-885B-24CC603E9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E798FA-C6D4-40EA-8B5F-8F39BB9B2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5774E1-8962-4C26-BB40-C58EED4E9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B649EC-A687-40EE-977F-B24EC3DB8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E0551F-0F0C-43C8-A700-FF409756D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2AD4E9-A704-4519-A69A-89D17B6D1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DD8582-DE42-4616-9F93-79DFBD975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B61D5-2DE5-4700-B5A8-677B51759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5605D0-0A62-485E-8799-71A2C6C89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2EF1E1-78E9-4E34-9087-F4413E514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64D82B-87BF-4F4D-B6C4-F11F62D5E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274BEF-D8DB-44FD-86AC-40CF6E804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D57246-F670-400B-ABAA-68CC99878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8809CC-9491-48D7-A565-6BA6DF6FD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1F433D-9AD4-426F-B275-A84A7925C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7E96F2-F77B-443C-9641-FF8AA291C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D4243D-60A4-4442-96D1-B65693C91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50631C-FB6E-4021-BE33-EE3895B15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1D466-54A0-48D7-8FE4-B4322FD26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76C4FA-A1A4-4A9F-AF62-F21F80ADB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5159C2-7DDC-460E-9BC5-4C345B1E5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038B2B-746B-42AF-B40F-D6C07BD8E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B1E440-906A-4D01-95BD-29C16C137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DFCB38-CE0B-47D5-B04A-F43E49A1F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7B6D64-4B8C-4509-8D6E-207A911F7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C20B2D-76E5-4D70-84FF-3E0FD38DD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828692-5F06-4D52-A6BE-A237FFD88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2D2EEF-C1E6-4490-8B6B-D554E5550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4685E1-08F4-4C29-8237-008C9538C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447B4-8196-4B9C-AEFF-09E7707E8E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A26F2-8BBA-4A4B-80E9-E943717B231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E858A-972D-4DA3-9D21-A45F6EC99DA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966CE-F169-49D2-BDB4-DC85EF20B02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2D1B6-DFD2-48C3-809D-709D17C0036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72771-0C9A-417F-86E6-21939D0A347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BF462-7427-4060-9D14-76F8CFD70A6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47FB5-00B5-4775-9097-935E6F32AAE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59CA6-5D33-4180-9C80-F3562A32988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0A291-AA15-430B-B7EB-5C0A45B1C62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A952E-8DA1-42C9-B3EC-C248BA1C51C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A278F-FEE8-4763-8C61-FCDB2BC17A9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DB0AB-6672-45D9-B03C-275058D188C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9B691-CB4D-4747-A69F-32A9E82AEFC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019C6-AB28-4CAF-89F3-2C9AED91852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3E71C-673C-4E56-9C2B-1D84B1F3534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E8A0D-8B6E-4CC0-8AAB-1B096081FFA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DD7D5-22FF-4B15-A445-A0DC532B83C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2788A-3DAD-4FFC-8C02-B6AA443B29D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48F85-E109-443B-B66B-DC4F509FCB1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C776A-3931-4609-BA6B-A87FF861727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A4631-BC3F-4A11-B30C-6C5EF198115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62751-C619-4D4E-A06B-8933F2FEAF1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FE30F-A76A-40BE-904F-F2FEE57F087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04EFB-6548-4EC7-AA9B-4659DC44D5E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8B46E-5E8D-4774-AF25-84EF3320879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1CFFF-2FF0-4852-9592-E4A28A664DD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020000" y="115920"/>
            <a:ext cx="1944720" cy="6476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B7802-ECDA-42F3-8F1D-BC31B7AD58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DF00A-651C-41D0-A323-29673CBCE82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805D5-2CFA-4CAF-B6E9-3EB11CBD565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F9895-8494-432C-A226-24877F12585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26622-E8A0-40CC-A5FF-2873D0DE776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452AD-61FF-4379-BDA5-2523BC9B273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91D72-FF7E-4D44-90CA-811FC7FBD11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0F4BA-DDAE-4BBD-A13C-E325C7FE72E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FC46B-17C8-483C-B28C-9C4CD9962DF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8A454-1F11-4D42-81D5-4B3AB8C448C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F269B-C3F8-4878-ABCB-12DAA676478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E881C-DACC-4EF8-A991-0508ECA19B1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5CF43-DDF5-429A-B521-562F8037E86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4" name="Picture 1" descr=""/>
          <p:cNvPicPr/>
          <p:nvPr/>
        </p:nvPicPr>
        <p:blipFill>
          <a:blip r:embed="rId1"/>
          <a:stretch/>
        </p:blipFill>
        <p:spPr>
          <a:xfrm>
            <a:off x="1228680" y="3057480"/>
            <a:ext cx="668664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72" name="Picture 3" descr=""/>
          <p:cNvPicPr/>
          <p:nvPr/>
        </p:nvPicPr>
        <p:blipFill>
          <a:blip r:embed="rId1"/>
          <a:stretch/>
        </p:blipFill>
        <p:spPr>
          <a:xfrm>
            <a:off x="885960" y="1504800"/>
            <a:ext cx="7372080" cy="3848400"/>
          </a:xfrm>
          <a:prstGeom prst="rect">
            <a:avLst/>
          </a:prstGeom>
          <a:ln w="0">
            <a:noFill/>
          </a:ln>
        </p:spPr>
      </p:pic>
      <p:pic>
        <p:nvPicPr>
          <p:cNvPr id="1073" name="Picture 3" descr=""/>
          <p:cNvPicPr/>
          <p:nvPr/>
        </p:nvPicPr>
        <p:blipFill>
          <a:blip r:embed="rId2"/>
          <a:stretch/>
        </p:blipFill>
        <p:spPr>
          <a:xfrm>
            <a:off x="3995640" y="3371760"/>
            <a:ext cx="2376720" cy="438120"/>
          </a:xfrm>
          <a:prstGeom prst="rect">
            <a:avLst/>
          </a:prstGeom>
          <a:ln w="0">
            <a:noFill/>
          </a:ln>
        </p:spPr>
      </p:pic>
      <p:pic>
        <p:nvPicPr>
          <p:cNvPr id="1074" name="Picture 3" descr=""/>
          <p:cNvPicPr/>
          <p:nvPr/>
        </p:nvPicPr>
        <p:blipFill>
          <a:blip r:embed="rId3"/>
          <a:stretch/>
        </p:blipFill>
        <p:spPr>
          <a:xfrm>
            <a:off x="3203640" y="4149720"/>
            <a:ext cx="1439640" cy="438120"/>
          </a:xfrm>
          <a:prstGeom prst="rect">
            <a:avLst/>
          </a:prstGeom>
          <a:ln w="0">
            <a:noFill/>
          </a:ln>
        </p:spPr>
      </p:pic>
      <p:pic>
        <p:nvPicPr>
          <p:cNvPr id="1075" name="Picture 3" descr=""/>
          <p:cNvPicPr/>
          <p:nvPr/>
        </p:nvPicPr>
        <p:blipFill>
          <a:blip r:embed="rId4"/>
          <a:stretch/>
        </p:blipFill>
        <p:spPr>
          <a:xfrm>
            <a:off x="5292720" y="4149720"/>
            <a:ext cx="144000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7" dur="5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2" dur="500"/>
                                        <p:tgtEl>
                                          <p:spTgt spid="10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7" dur="500"/>
                                        <p:tgtEl>
                                          <p:spTgt spid="10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78" name="Picture 2" descr=""/>
          <p:cNvPicPr/>
          <p:nvPr/>
        </p:nvPicPr>
        <p:blipFill>
          <a:blip r:embed="rId1"/>
          <a:stretch/>
        </p:blipFill>
        <p:spPr>
          <a:xfrm>
            <a:off x="1023840" y="1757520"/>
            <a:ext cx="7096320" cy="3342960"/>
          </a:xfrm>
          <a:prstGeom prst="rect">
            <a:avLst/>
          </a:prstGeom>
          <a:ln w="0">
            <a:noFill/>
          </a:ln>
        </p:spPr>
      </p:pic>
      <p:pic>
        <p:nvPicPr>
          <p:cNvPr id="1079" name="Picture 3" descr=""/>
          <p:cNvPicPr/>
          <p:nvPr/>
        </p:nvPicPr>
        <p:blipFill>
          <a:blip r:embed="rId2"/>
          <a:stretch/>
        </p:blipFill>
        <p:spPr>
          <a:xfrm>
            <a:off x="2843280" y="3809880"/>
            <a:ext cx="1441440" cy="438120"/>
          </a:xfrm>
          <a:prstGeom prst="rect">
            <a:avLst/>
          </a:prstGeom>
          <a:ln w="0">
            <a:noFill/>
          </a:ln>
        </p:spPr>
      </p:pic>
      <p:pic>
        <p:nvPicPr>
          <p:cNvPr id="1080" name="Picture 3" descr=""/>
          <p:cNvPicPr/>
          <p:nvPr/>
        </p:nvPicPr>
        <p:blipFill>
          <a:blip r:embed="rId3"/>
          <a:stretch/>
        </p:blipFill>
        <p:spPr>
          <a:xfrm>
            <a:off x="2995560" y="4575240"/>
            <a:ext cx="1441440" cy="438120"/>
          </a:xfrm>
          <a:prstGeom prst="rect">
            <a:avLst/>
          </a:prstGeom>
          <a:ln w="0">
            <a:noFill/>
          </a:ln>
        </p:spPr>
      </p:pic>
      <p:pic>
        <p:nvPicPr>
          <p:cNvPr id="1081" name="Picture 3" descr=""/>
          <p:cNvPicPr/>
          <p:nvPr/>
        </p:nvPicPr>
        <p:blipFill>
          <a:blip r:embed="rId4"/>
          <a:stretch/>
        </p:blipFill>
        <p:spPr>
          <a:xfrm>
            <a:off x="4643280" y="4581360"/>
            <a:ext cx="1224000" cy="438480"/>
          </a:xfrm>
          <a:prstGeom prst="rect">
            <a:avLst/>
          </a:prstGeom>
          <a:ln w="0">
            <a:noFill/>
          </a:ln>
        </p:spPr>
      </p:pic>
      <p:pic>
        <p:nvPicPr>
          <p:cNvPr id="1082" name="Picture 3" descr=""/>
          <p:cNvPicPr/>
          <p:nvPr/>
        </p:nvPicPr>
        <p:blipFill>
          <a:blip r:embed="rId5"/>
          <a:stretch/>
        </p:blipFill>
        <p:spPr>
          <a:xfrm>
            <a:off x="6300720" y="4581360"/>
            <a:ext cx="1440000" cy="4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4" dur="500"/>
                                        <p:tgtEl>
                                          <p:spTgt spid="10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9" dur="500"/>
                                        <p:tgtEl>
                                          <p:spTgt spid="10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4" dur="500"/>
                                        <p:tgtEl>
                                          <p:spTgt spid="10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9" dur="500"/>
                                        <p:tgtEl>
                                          <p:spTgt spid="10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85" name="Picture 2" descr=""/>
          <p:cNvPicPr/>
          <p:nvPr/>
        </p:nvPicPr>
        <p:blipFill>
          <a:blip r:embed="rId1"/>
          <a:stretch/>
        </p:blipFill>
        <p:spPr>
          <a:xfrm>
            <a:off x="600120" y="1138320"/>
            <a:ext cx="7943760" cy="4581360"/>
          </a:xfrm>
          <a:prstGeom prst="rect">
            <a:avLst/>
          </a:prstGeom>
          <a:ln w="0">
            <a:noFill/>
          </a:ln>
        </p:spPr>
      </p:pic>
      <p:pic>
        <p:nvPicPr>
          <p:cNvPr id="1086" name="Picture 3" descr=""/>
          <p:cNvPicPr/>
          <p:nvPr/>
        </p:nvPicPr>
        <p:blipFill>
          <a:blip r:embed="rId2"/>
          <a:stretch/>
        </p:blipFill>
        <p:spPr>
          <a:xfrm>
            <a:off x="1835280" y="2060640"/>
            <a:ext cx="352440" cy="438120"/>
          </a:xfrm>
          <a:prstGeom prst="rect">
            <a:avLst/>
          </a:prstGeom>
          <a:ln w="0">
            <a:noFill/>
          </a:ln>
        </p:spPr>
      </p:pic>
      <p:pic>
        <p:nvPicPr>
          <p:cNvPr id="1087" name="Picture 3" descr=""/>
          <p:cNvPicPr/>
          <p:nvPr/>
        </p:nvPicPr>
        <p:blipFill>
          <a:blip r:embed="rId3"/>
          <a:stretch/>
        </p:blipFill>
        <p:spPr>
          <a:xfrm>
            <a:off x="1835280" y="2846520"/>
            <a:ext cx="352440" cy="438120"/>
          </a:xfrm>
          <a:prstGeom prst="rect">
            <a:avLst/>
          </a:prstGeom>
          <a:ln w="0">
            <a:noFill/>
          </a:ln>
        </p:spPr>
      </p:pic>
      <p:pic>
        <p:nvPicPr>
          <p:cNvPr id="1088" name="Picture 3" descr=""/>
          <p:cNvPicPr/>
          <p:nvPr/>
        </p:nvPicPr>
        <p:blipFill>
          <a:blip r:embed="rId4"/>
          <a:stretch/>
        </p:blipFill>
        <p:spPr>
          <a:xfrm>
            <a:off x="1835280" y="3638520"/>
            <a:ext cx="352440" cy="438120"/>
          </a:xfrm>
          <a:prstGeom prst="rect">
            <a:avLst/>
          </a:prstGeom>
          <a:ln w="0">
            <a:noFill/>
          </a:ln>
        </p:spPr>
      </p:pic>
      <p:pic>
        <p:nvPicPr>
          <p:cNvPr id="1089" name="Picture 3" descr=""/>
          <p:cNvPicPr/>
          <p:nvPr/>
        </p:nvPicPr>
        <p:blipFill>
          <a:blip r:embed="rId5"/>
          <a:stretch/>
        </p:blipFill>
        <p:spPr>
          <a:xfrm>
            <a:off x="1835280" y="4430880"/>
            <a:ext cx="352440" cy="438120"/>
          </a:xfrm>
          <a:prstGeom prst="rect">
            <a:avLst/>
          </a:prstGeom>
          <a:ln w="0">
            <a:noFill/>
          </a:ln>
        </p:spPr>
      </p:pic>
      <p:pic>
        <p:nvPicPr>
          <p:cNvPr id="1090" name="Picture 3" descr=""/>
          <p:cNvPicPr/>
          <p:nvPr/>
        </p:nvPicPr>
        <p:blipFill>
          <a:blip r:embed="rId6"/>
          <a:stretch/>
        </p:blipFill>
        <p:spPr>
          <a:xfrm>
            <a:off x="1835280" y="5151600"/>
            <a:ext cx="35244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6" dur="500"/>
                                        <p:tgtEl>
                                          <p:spTgt spid="10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1" dur="500"/>
                                        <p:tgtEl>
                                          <p:spTgt spid="10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6" dur="500"/>
                                        <p:tgtEl>
                                          <p:spTgt spid="10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1" dur="500"/>
                                        <p:tgtEl>
                                          <p:spTgt spid="10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6" dur="500"/>
                                        <p:tgtEl>
                                          <p:spTgt spid="10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93" name="Picture 2" descr=""/>
          <p:cNvPicPr/>
          <p:nvPr/>
        </p:nvPicPr>
        <p:blipFill>
          <a:blip r:embed="rId1"/>
          <a:stretch/>
        </p:blipFill>
        <p:spPr>
          <a:xfrm>
            <a:off x="1500120" y="1643040"/>
            <a:ext cx="614376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96" name="Picture 2" descr=""/>
          <p:cNvPicPr/>
          <p:nvPr/>
        </p:nvPicPr>
        <p:blipFill>
          <a:blip r:embed="rId1"/>
          <a:stretch/>
        </p:blipFill>
        <p:spPr>
          <a:xfrm>
            <a:off x="490680" y="795240"/>
            <a:ext cx="8162640" cy="5991480"/>
          </a:xfrm>
          <a:prstGeom prst="rect">
            <a:avLst/>
          </a:prstGeom>
          <a:ln w="0">
            <a:noFill/>
          </a:ln>
        </p:spPr>
      </p:pic>
      <p:pic>
        <p:nvPicPr>
          <p:cNvPr id="1097" name="Picture 3" descr=""/>
          <p:cNvPicPr/>
          <p:nvPr/>
        </p:nvPicPr>
        <p:blipFill>
          <a:blip r:embed="rId2"/>
          <a:stretch/>
        </p:blipFill>
        <p:spPr>
          <a:xfrm>
            <a:off x="2124000" y="3268800"/>
            <a:ext cx="1295640" cy="438120"/>
          </a:xfrm>
          <a:prstGeom prst="rect">
            <a:avLst/>
          </a:prstGeom>
          <a:ln w="0">
            <a:noFill/>
          </a:ln>
        </p:spPr>
      </p:pic>
      <p:pic>
        <p:nvPicPr>
          <p:cNvPr id="1098" name="Picture 3" descr=""/>
          <p:cNvPicPr/>
          <p:nvPr/>
        </p:nvPicPr>
        <p:blipFill>
          <a:blip r:embed="rId3"/>
          <a:stretch/>
        </p:blipFill>
        <p:spPr>
          <a:xfrm>
            <a:off x="2297160" y="5583240"/>
            <a:ext cx="1295280" cy="438120"/>
          </a:xfrm>
          <a:prstGeom prst="rect">
            <a:avLst/>
          </a:prstGeom>
          <a:ln w="0">
            <a:noFill/>
          </a:ln>
        </p:spPr>
      </p:pic>
      <p:pic>
        <p:nvPicPr>
          <p:cNvPr id="1099" name="Picture 3" descr=""/>
          <p:cNvPicPr/>
          <p:nvPr/>
        </p:nvPicPr>
        <p:blipFill>
          <a:blip r:embed="rId4"/>
          <a:stretch/>
        </p:blipFill>
        <p:spPr>
          <a:xfrm>
            <a:off x="4859280" y="5589720"/>
            <a:ext cx="129708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3" dur="500"/>
                                        <p:tgtEl>
                                          <p:spTgt spid="10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8" dur="500"/>
                                        <p:tgtEl>
                                          <p:spTgt spid="10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3" dur="500"/>
                                        <p:tgtEl>
                                          <p:spTgt spid="10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102" name="Picture 2" descr=""/>
          <p:cNvPicPr/>
          <p:nvPr/>
        </p:nvPicPr>
        <p:blipFill>
          <a:blip r:embed="rId1"/>
          <a:stretch/>
        </p:blipFill>
        <p:spPr>
          <a:xfrm>
            <a:off x="857160" y="1100160"/>
            <a:ext cx="7363080" cy="1228680"/>
          </a:xfrm>
          <a:prstGeom prst="rect">
            <a:avLst/>
          </a:prstGeom>
          <a:ln w="0">
            <a:noFill/>
          </a:ln>
        </p:spPr>
      </p:pic>
      <p:pic>
        <p:nvPicPr>
          <p:cNvPr id="1103" name="Picture 4" descr=""/>
          <p:cNvPicPr/>
          <p:nvPr/>
        </p:nvPicPr>
        <p:blipFill>
          <a:blip r:embed="rId2"/>
          <a:stretch/>
        </p:blipFill>
        <p:spPr>
          <a:xfrm>
            <a:off x="819000" y="2671920"/>
            <a:ext cx="7610760" cy="3686040"/>
          </a:xfrm>
          <a:prstGeom prst="rect">
            <a:avLst/>
          </a:prstGeom>
          <a:ln w="0">
            <a:noFill/>
          </a:ln>
        </p:spPr>
      </p:pic>
      <p:pic>
        <p:nvPicPr>
          <p:cNvPr id="1104" name="Picture 3" descr=""/>
          <p:cNvPicPr/>
          <p:nvPr/>
        </p:nvPicPr>
        <p:blipFill>
          <a:blip r:embed="rId3"/>
          <a:stretch/>
        </p:blipFill>
        <p:spPr>
          <a:xfrm>
            <a:off x="1763640" y="2651040"/>
            <a:ext cx="1295640" cy="438120"/>
          </a:xfrm>
          <a:prstGeom prst="rect">
            <a:avLst/>
          </a:prstGeom>
          <a:ln w="0">
            <a:noFill/>
          </a:ln>
        </p:spPr>
      </p:pic>
      <p:pic>
        <p:nvPicPr>
          <p:cNvPr id="1105" name="Picture 3" descr=""/>
          <p:cNvPicPr/>
          <p:nvPr/>
        </p:nvPicPr>
        <p:blipFill>
          <a:blip r:embed="rId4"/>
          <a:stretch/>
        </p:blipFill>
        <p:spPr>
          <a:xfrm>
            <a:off x="3564000" y="2651040"/>
            <a:ext cx="792000" cy="438120"/>
          </a:xfrm>
          <a:prstGeom prst="rect">
            <a:avLst/>
          </a:prstGeom>
          <a:ln w="0">
            <a:noFill/>
          </a:ln>
        </p:spPr>
      </p:pic>
      <p:pic>
        <p:nvPicPr>
          <p:cNvPr id="1106" name="Picture 3" descr=""/>
          <p:cNvPicPr/>
          <p:nvPr/>
        </p:nvPicPr>
        <p:blipFill>
          <a:blip r:embed="rId5"/>
          <a:stretch/>
        </p:blipFill>
        <p:spPr>
          <a:xfrm>
            <a:off x="6732720" y="2637000"/>
            <a:ext cx="792000" cy="438120"/>
          </a:xfrm>
          <a:prstGeom prst="rect">
            <a:avLst/>
          </a:prstGeom>
          <a:ln w="0">
            <a:noFill/>
          </a:ln>
        </p:spPr>
      </p:pic>
      <p:pic>
        <p:nvPicPr>
          <p:cNvPr id="1107" name="Picture 3" descr=""/>
          <p:cNvPicPr/>
          <p:nvPr/>
        </p:nvPicPr>
        <p:blipFill>
          <a:blip r:embed="rId6"/>
          <a:stretch/>
        </p:blipFill>
        <p:spPr>
          <a:xfrm>
            <a:off x="1619280" y="5773680"/>
            <a:ext cx="662472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0" dur="500"/>
                                        <p:tgtEl>
                                          <p:spTgt spid="1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5" dur="500"/>
                                        <p:tgtEl>
                                          <p:spTgt spid="1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0" dur="500"/>
                                        <p:tgtEl>
                                          <p:spTgt spid="1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5" dur="500"/>
                                        <p:tgtEl>
                                          <p:spTgt spid="1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110" name="Picture 2" descr=""/>
          <p:cNvPicPr/>
          <p:nvPr/>
        </p:nvPicPr>
        <p:blipFill>
          <a:blip r:embed="rId1"/>
          <a:stretch/>
        </p:blipFill>
        <p:spPr>
          <a:xfrm>
            <a:off x="404640" y="766800"/>
            <a:ext cx="8334720" cy="6019920"/>
          </a:xfrm>
          <a:prstGeom prst="rect">
            <a:avLst/>
          </a:prstGeom>
          <a:ln w="0">
            <a:noFill/>
          </a:ln>
        </p:spPr>
      </p:pic>
      <p:pic>
        <p:nvPicPr>
          <p:cNvPr id="1111" name="Picture 3" descr=""/>
          <p:cNvPicPr/>
          <p:nvPr/>
        </p:nvPicPr>
        <p:blipFill>
          <a:blip r:embed="rId2"/>
          <a:stretch/>
        </p:blipFill>
        <p:spPr>
          <a:xfrm>
            <a:off x="1835280" y="2308320"/>
            <a:ext cx="662436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2" dur="500"/>
                                        <p:tgtEl>
                                          <p:spTgt spid="1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114" name="Picture 2" descr=""/>
          <p:cNvPicPr/>
          <p:nvPr/>
        </p:nvPicPr>
        <p:blipFill>
          <a:blip r:embed="rId1"/>
          <a:stretch/>
        </p:blipFill>
        <p:spPr>
          <a:xfrm>
            <a:off x="776160" y="800280"/>
            <a:ext cx="7591680" cy="59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117" name="Picture 2" descr=""/>
          <p:cNvPicPr/>
          <p:nvPr/>
        </p:nvPicPr>
        <p:blipFill>
          <a:blip r:embed="rId1"/>
          <a:stretch/>
        </p:blipFill>
        <p:spPr>
          <a:xfrm>
            <a:off x="1071720" y="763560"/>
            <a:ext cx="6876720" cy="6026040"/>
          </a:xfrm>
          <a:prstGeom prst="rect">
            <a:avLst/>
          </a:prstGeom>
          <a:ln w="0">
            <a:noFill/>
          </a:ln>
        </p:spPr>
      </p:pic>
      <p:pic>
        <p:nvPicPr>
          <p:cNvPr id="1118" name="Picture 3" descr=""/>
          <p:cNvPicPr/>
          <p:nvPr/>
        </p:nvPicPr>
        <p:blipFill>
          <a:blip r:embed="rId2"/>
          <a:stretch/>
        </p:blipFill>
        <p:spPr>
          <a:xfrm>
            <a:off x="1547640" y="758880"/>
            <a:ext cx="360360" cy="438120"/>
          </a:xfrm>
          <a:prstGeom prst="rect">
            <a:avLst/>
          </a:prstGeom>
          <a:ln w="0">
            <a:noFill/>
          </a:ln>
        </p:spPr>
      </p:pic>
      <p:pic>
        <p:nvPicPr>
          <p:cNvPr id="1119" name="Picture 3" descr=""/>
          <p:cNvPicPr/>
          <p:nvPr/>
        </p:nvPicPr>
        <p:blipFill>
          <a:blip r:embed="rId3"/>
          <a:stretch/>
        </p:blipFill>
        <p:spPr>
          <a:xfrm>
            <a:off x="1547640" y="2127240"/>
            <a:ext cx="360360" cy="438120"/>
          </a:xfrm>
          <a:prstGeom prst="rect">
            <a:avLst/>
          </a:prstGeom>
          <a:ln w="0">
            <a:noFill/>
          </a:ln>
        </p:spPr>
      </p:pic>
      <p:pic>
        <p:nvPicPr>
          <p:cNvPr id="1120" name="Picture 3" descr=""/>
          <p:cNvPicPr/>
          <p:nvPr/>
        </p:nvPicPr>
        <p:blipFill>
          <a:blip r:embed="rId4"/>
          <a:stretch/>
        </p:blipFill>
        <p:spPr>
          <a:xfrm>
            <a:off x="1547640" y="2852640"/>
            <a:ext cx="360360" cy="438120"/>
          </a:xfrm>
          <a:prstGeom prst="rect">
            <a:avLst/>
          </a:prstGeom>
          <a:ln w="0">
            <a:noFill/>
          </a:ln>
        </p:spPr>
      </p:pic>
      <p:pic>
        <p:nvPicPr>
          <p:cNvPr id="1121" name="Picture 3" descr=""/>
          <p:cNvPicPr/>
          <p:nvPr/>
        </p:nvPicPr>
        <p:blipFill>
          <a:blip r:embed="rId5"/>
          <a:stretch/>
        </p:blipFill>
        <p:spPr>
          <a:xfrm>
            <a:off x="1547640" y="4286160"/>
            <a:ext cx="360360" cy="438120"/>
          </a:xfrm>
          <a:prstGeom prst="rect">
            <a:avLst/>
          </a:prstGeom>
          <a:ln w="0">
            <a:noFill/>
          </a:ln>
        </p:spPr>
      </p:pic>
      <p:pic>
        <p:nvPicPr>
          <p:cNvPr id="1122" name="Picture 3" descr=""/>
          <p:cNvPicPr/>
          <p:nvPr/>
        </p:nvPicPr>
        <p:blipFill>
          <a:blip r:embed="rId6"/>
          <a:stretch/>
        </p:blipFill>
        <p:spPr>
          <a:xfrm>
            <a:off x="1557360" y="5727600"/>
            <a:ext cx="36036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9" dur="500"/>
                                        <p:tgtEl>
                                          <p:spTgt spid="1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4" dur="500"/>
                                        <p:tgtEl>
                                          <p:spTgt spid="1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9" dur="500"/>
                                        <p:tgtEl>
                                          <p:spTgt spid="1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4" dur="500"/>
                                        <p:tgtEl>
                                          <p:spTgt spid="1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9" dur="500"/>
                                        <p:tgtEl>
                                          <p:spTgt spid="1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7" name="Picture 1" descr=""/>
          <p:cNvPicPr/>
          <p:nvPr/>
        </p:nvPicPr>
        <p:blipFill>
          <a:blip r:embed="rId1"/>
          <a:stretch/>
        </p:blipFill>
        <p:spPr>
          <a:xfrm>
            <a:off x="500040" y="1214280"/>
            <a:ext cx="8182080" cy="5096160"/>
          </a:xfrm>
          <a:prstGeom prst="rect">
            <a:avLst/>
          </a:prstGeom>
          <a:ln w="0">
            <a:noFill/>
          </a:ln>
        </p:spPr>
      </p:pic>
      <p:pic>
        <p:nvPicPr>
          <p:cNvPr id="1028" name="Picture 3" descr=""/>
          <p:cNvPicPr/>
          <p:nvPr/>
        </p:nvPicPr>
        <p:blipFill>
          <a:blip r:embed="rId2"/>
          <a:stretch/>
        </p:blipFill>
        <p:spPr>
          <a:xfrm>
            <a:off x="1763640" y="2846520"/>
            <a:ext cx="432000" cy="43812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3" descr=""/>
          <p:cNvPicPr/>
          <p:nvPr/>
        </p:nvPicPr>
        <p:blipFill>
          <a:blip r:embed="rId3"/>
          <a:stretch/>
        </p:blipFill>
        <p:spPr>
          <a:xfrm>
            <a:off x="1763640" y="3567240"/>
            <a:ext cx="432000" cy="43812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3" descr=""/>
          <p:cNvPicPr/>
          <p:nvPr/>
        </p:nvPicPr>
        <p:blipFill>
          <a:blip r:embed="rId4"/>
          <a:stretch/>
        </p:blipFill>
        <p:spPr>
          <a:xfrm>
            <a:off x="1763640" y="4286160"/>
            <a:ext cx="432000" cy="43812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3" descr=""/>
          <p:cNvPicPr/>
          <p:nvPr/>
        </p:nvPicPr>
        <p:blipFill>
          <a:blip r:embed="rId5"/>
          <a:stretch/>
        </p:blipFill>
        <p:spPr>
          <a:xfrm>
            <a:off x="1763640" y="4935600"/>
            <a:ext cx="432000" cy="43812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3" descr=""/>
          <p:cNvPicPr/>
          <p:nvPr/>
        </p:nvPicPr>
        <p:blipFill>
          <a:blip r:embed="rId6"/>
          <a:stretch/>
        </p:blipFill>
        <p:spPr>
          <a:xfrm>
            <a:off x="1763640" y="5727600"/>
            <a:ext cx="43200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35" name="Picture 1" descr=""/>
          <p:cNvPicPr/>
          <p:nvPr/>
        </p:nvPicPr>
        <p:blipFill>
          <a:blip r:embed="rId1"/>
          <a:stretch/>
        </p:blipFill>
        <p:spPr>
          <a:xfrm>
            <a:off x="500040" y="1143000"/>
            <a:ext cx="8096400" cy="4905360"/>
          </a:xfrm>
          <a:prstGeom prst="rect">
            <a:avLst/>
          </a:prstGeom>
          <a:ln w="0">
            <a:noFill/>
          </a:ln>
        </p:spPr>
      </p:pic>
      <p:pic>
        <p:nvPicPr>
          <p:cNvPr id="1036" name="Picture 3" descr=""/>
          <p:cNvPicPr/>
          <p:nvPr/>
        </p:nvPicPr>
        <p:blipFill>
          <a:blip r:embed="rId2"/>
          <a:stretch/>
        </p:blipFill>
        <p:spPr>
          <a:xfrm>
            <a:off x="1692360" y="2060640"/>
            <a:ext cx="431640" cy="438120"/>
          </a:xfrm>
          <a:prstGeom prst="rect">
            <a:avLst/>
          </a:prstGeom>
          <a:ln w="0">
            <a:noFill/>
          </a:ln>
        </p:spPr>
      </p:pic>
      <p:pic>
        <p:nvPicPr>
          <p:cNvPr id="1037" name="Picture 3" descr=""/>
          <p:cNvPicPr/>
          <p:nvPr/>
        </p:nvPicPr>
        <p:blipFill>
          <a:blip r:embed="rId3"/>
          <a:stretch/>
        </p:blipFill>
        <p:spPr>
          <a:xfrm>
            <a:off x="1763640" y="3429000"/>
            <a:ext cx="432000" cy="438120"/>
          </a:xfrm>
          <a:prstGeom prst="rect">
            <a:avLst/>
          </a:prstGeom>
          <a:ln w="0">
            <a:noFill/>
          </a:ln>
        </p:spPr>
      </p:pic>
      <p:pic>
        <p:nvPicPr>
          <p:cNvPr id="1038" name="Picture 3" descr=""/>
          <p:cNvPicPr/>
          <p:nvPr/>
        </p:nvPicPr>
        <p:blipFill>
          <a:blip r:embed="rId4"/>
          <a:stretch/>
        </p:blipFill>
        <p:spPr>
          <a:xfrm>
            <a:off x="1692360" y="4862520"/>
            <a:ext cx="43164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5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5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41" name="Picture 1" descr=""/>
          <p:cNvPicPr/>
          <p:nvPr/>
        </p:nvPicPr>
        <p:blipFill>
          <a:blip r:embed="rId1"/>
          <a:stretch/>
        </p:blipFill>
        <p:spPr>
          <a:xfrm>
            <a:off x="1166760" y="2038320"/>
            <a:ext cx="6810480" cy="2781360"/>
          </a:xfrm>
          <a:prstGeom prst="rect">
            <a:avLst/>
          </a:prstGeom>
          <a:ln w="0">
            <a:noFill/>
          </a:ln>
        </p:spPr>
      </p:pic>
      <p:pic>
        <p:nvPicPr>
          <p:cNvPr id="1042" name="Picture 3" descr=""/>
          <p:cNvPicPr/>
          <p:nvPr/>
        </p:nvPicPr>
        <p:blipFill>
          <a:blip r:embed="rId2"/>
          <a:stretch/>
        </p:blipFill>
        <p:spPr>
          <a:xfrm>
            <a:off x="1547640" y="2133720"/>
            <a:ext cx="432000" cy="438120"/>
          </a:xfrm>
          <a:prstGeom prst="rect">
            <a:avLst/>
          </a:prstGeom>
          <a:ln w="0">
            <a:noFill/>
          </a:ln>
        </p:spPr>
      </p:pic>
      <p:pic>
        <p:nvPicPr>
          <p:cNvPr id="1043" name="Picture 3" descr=""/>
          <p:cNvPicPr/>
          <p:nvPr/>
        </p:nvPicPr>
        <p:blipFill>
          <a:blip r:embed="rId3"/>
          <a:stretch/>
        </p:blipFill>
        <p:spPr>
          <a:xfrm>
            <a:off x="1692360" y="3567240"/>
            <a:ext cx="43164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0" dur="5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5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46" name="Picture 1" descr=""/>
          <p:cNvPicPr/>
          <p:nvPr/>
        </p:nvPicPr>
        <p:blipFill>
          <a:blip r:embed="rId1"/>
          <a:stretch/>
        </p:blipFill>
        <p:spPr>
          <a:xfrm>
            <a:off x="2214720" y="785880"/>
            <a:ext cx="5081400" cy="6029280"/>
          </a:xfrm>
          <a:prstGeom prst="rect">
            <a:avLst/>
          </a:prstGeom>
          <a:ln w="0">
            <a:noFill/>
          </a:ln>
        </p:spPr>
      </p:pic>
      <p:pic>
        <p:nvPicPr>
          <p:cNvPr id="1047" name="Picture 3" descr=""/>
          <p:cNvPicPr/>
          <p:nvPr/>
        </p:nvPicPr>
        <p:blipFill>
          <a:blip r:embed="rId2"/>
          <a:stretch/>
        </p:blipFill>
        <p:spPr>
          <a:xfrm>
            <a:off x="2486160" y="1228680"/>
            <a:ext cx="4657680" cy="559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2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50" name="Picture 1" descr=""/>
          <p:cNvPicPr/>
          <p:nvPr/>
        </p:nvPicPr>
        <p:blipFill>
          <a:blip r:embed="rId1"/>
          <a:stretch/>
        </p:blipFill>
        <p:spPr>
          <a:xfrm>
            <a:off x="500040" y="866880"/>
            <a:ext cx="8143920" cy="5848200"/>
          </a:xfrm>
          <a:prstGeom prst="rect">
            <a:avLst/>
          </a:prstGeom>
          <a:ln w="0">
            <a:noFill/>
          </a:ln>
        </p:spPr>
      </p:pic>
      <p:pic>
        <p:nvPicPr>
          <p:cNvPr id="1051" name="Picture 3" descr=""/>
          <p:cNvPicPr/>
          <p:nvPr/>
        </p:nvPicPr>
        <p:blipFill>
          <a:blip r:embed="rId2"/>
          <a:stretch/>
        </p:blipFill>
        <p:spPr>
          <a:xfrm>
            <a:off x="1619280" y="1628640"/>
            <a:ext cx="431640" cy="438120"/>
          </a:xfrm>
          <a:prstGeom prst="rect">
            <a:avLst/>
          </a:prstGeom>
          <a:ln w="0">
            <a:noFill/>
          </a:ln>
        </p:spPr>
      </p:pic>
      <p:pic>
        <p:nvPicPr>
          <p:cNvPr id="1052" name="Picture 3" descr=""/>
          <p:cNvPicPr/>
          <p:nvPr/>
        </p:nvPicPr>
        <p:blipFill>
          <a:blip r:embed="rId3"/>
          <a:stretch/>
        </p:blipFill>
        <p:spPr>
          <a:xfrm>
            <a:off x="1619280" y="2919240"/>
            <a:ext cx="431640" cy="438480"/>
          </a:xfrm>
          <a:prstGeom prst="rect">
            <a:avLst/>
          </a:prstGeom>
          <a:ln w="0">
            <a:noFill/>
          </a:ln>
        </p:spPr>
      </p:pic>
      <p:pic>
        <p:nvPicPr>
          <p:cNvPr id="1053" name="Picture 3" descr=""/>
          <p:cNvPicPr/>
          <p:nvPr/>
        </p:nvPicPr>
        <p:blipFill>
          <a:blip r:embed="rId4"/>
          <a:stretch/>
        </p:blipFill>
        <p:spPr>
          <a:xfrm>
            <a:off x="1619280" y="5589720"/>
            <a:ext cx="43164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9" dur="5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4" dur="5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9" dur="5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56" name="Picture 2" descr=""/>
          <p:cNvPicPr/>
          <p:nvPr/>
        </p:nvPicPr>
        <p:blipFill>
          <a:blip r:embed="rId1"/>
          <a:stretch/>
        </p:blipFill>
        <p:spPr>
          <a:xfrm>
            <a:off x="857160" y="701640"/>
            <a:ext cx="7477200" cy="6129360"/>
          </a:xfrm>
          <a:prstGeom prst="rect">
            <a:avLst/>
          </a:prstGeom>
          <a:ln w="0">
            <a:noFill/>
          </a:ln>
        </p:spPr>
      </p:pic>
      <p:pic>
        <p:nvPicPr>
          <p:cNvPr id="1057" name="Picture 3" descr=""/>
          <p:cNvPicPr/>
          <p:nvPr/>
        </p:nvPicPr>
        <p:blipFill>
          <a:blip r:embed="rId2"/>
          <a:stretch/>
        </p:blipFill>
        <p:spPr>
          <a:xfrm>
            <a:off x="1692360" y="1916280"/>
            <a:ext cx="431640" cy="438120"/>
          </a:xfrm>
          <a:prstGeom prst="rect">
            <a:avLst/>
          </a:prstGeom>
          <a:ln w="0">
            <a:noFill/>
          </a:ln>
        </p:spPr>
      </p:pic>
      <p:pic>
        <p:nvPicPr>
          <p:cNvPr id="1058" name="Picture 3" descr=""/>
          <p:cNvPicPr/>
          <p:nvPr/>
        </p:nvPicPr>
        <p:blipFill>
          <a:blip r:embed="rId3"/>
          <a:stretch/>
        </p:blipFill>
        <p:spPr>
          <a:xfrm>
            <a:off x="1692360" y="4503600"/>
            <a:ext cx="43164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6" dur="5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1" dur="5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61" name="Picture 1" descr=""/>
          <p:cNvPicPr/>
          <p:nvPr/>
        </p:nvPicPr>
        <p:blipFill>
          <a:blip r:embed="rId1"/>
          <a:stretch/>
        </p:blipFill>
        <p:spPr>
          <a:xfrm>
            <a:off x="714240" y="1519200"/>
            <a:ext cx="7715520" cy="3819600"/>
          </a:xfrm>
          <a:prstGeom prst="rect">
            <a:avLst/>
          </a:prstGeom>
          <a:ln w="0">
            <a:noFill/>
          </a:ln>
        </p:spPr>
      </p:pic>
      <p:pic>
        <p:nvPicPr>
          <p:cNvPr id="1062" name="Picture 3" descr=""/>
          <p:cNvPicPr/>
          <p:nvPr/>
        </p:nvPicPr>
        <p:blipFill>
          <a:blip r:embed="rId2"/>
          <a:stretch/>
        </p:blipFill>
        <p:spPr>
          <a:xfrm>
            <a:off x="6135840" y="4129200"/>
            <a:ext cx="1152360" cy="438120"/>
          </a:xfrm>
          <a:prstGeom prst="rect">
            <a:avLst/>
          </a:prstGeom>
          <a:ln w="0">
            <a:noFill/>
          </a:ln>
        </p:spPr>
      </p:pic>
      <p:pic>
        <p:nvPicPr>
          <p:cNvPr id="1063" name="Picture 3" descr=""/>
          <p:cNvPicPr/>
          <p:nvPr/>
        </p:nvPicPr>
        <p:blipFill>
          <a:blip r:embed="rId3"/>
          <a:stretch/>
        </p:blipFill>
        <p:spPr>
          <a:xfrm>
            <a:off x="3276720" y="4786200"/>
            <a:ext cx="115092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8" dur="5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3" dur="5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66" name="Picture 1" descr=""/>
          <p:cNvPicPr/>
          <p:nvPr/>
        </p:nvPicPr>
        <p:blipFill>
          <a:blip r:embed="rId1"/>
          <a:stretch/>
        </p:blipFill>
        <p:spPr>
          <a:xfrm>
            <a:off x="1014480" y="752400"/>
            <a:ext cx="7115040" cy="6067440"/>
          </a:xfrm>
          <a:prstGeom prst="rect">
            <a:avLst/>
          </a:prstGeom>
          <a:ln w="0">
            <a:noFill/>
          </a:ln>
        </p:spPr>
      </p:pic>
      <p:pic>
        <p:nvPicPr>
          <p:cNvPr id="1067" name="Picture 3" descr=""/>
          <p:cNvPicPr/>
          <p:nvPr/>
        </p:nvPicPr>
        <p:blipFill>
          <a:blip r:embed="rId2"/>
          <a:stretch/>
        </p:blipFill>
        <p:spPr>
          <a:xfrm>
            <a:off x="5219640" y="2544840"/>
            <a:ext cx="1152720" cy="438120"/>
          </a:xfrm>
          <a:prstGeom prst="rect">
            <a:avLst/>
          </a:prstGeom>
          <a:ln w="0">
            <a:noFill/>
          </a:ln>
        </p:spPr>
      </p:pic>
      <p:pic>
        <p:nvPicPr>
          <p:cNvPr id="1068" name="Picture 3" descr=""/>
          <p:cNvPicPr/>
          <p:nvPr/>
        </p:nvPicPr>
        <p:blipFill>
          <a:blip r:embed="rId3"/>
          <a:stretch/>
        </p:blipFill>
        <p:spPr>
          <a:xfrm>
            <a:off x="5940360" y="3218040"/>
            <a:ext cx="935280" cy="438120"/>
          </a:xfrm>
          <a:prstGeom prst="rect">
            <a:avLst/>
          </a:prstGeom>
          <a:ln w="0">
            <a:noFill/>
          </a:ln>
        </p:spPr>
      </p:pic>
      <p:pic>
        <p:nvPicPr>
          <p:cNvPr id="1069" name="Picture 3" descr=""/>
          <p:cNvPicPr/>
          <p:nvPr/>
        </p:nvPicPr>
        <p:blipFill>
          <a:blip r:embed="rId4"/>
          <a:stretch/>
        </p:blipFill>
        <p:spPr>
          <a:xfrm>
            <a:off x="4356000" y="6313320"/>
            <a:ext cx="2303640" cy="4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0" dur="5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5" dur="500"/>
                                        <p:tgtEl>
                                          <p:spTgt spid="10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0" dur="500"/>
                                        <p:tgtEl>
                                          <p:spTgt spid="10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52:26Z</dcterms:created>
  <dc:creator>未知用户</dc:creator>
  <dc:description/>
  <dc:language>en-US</dc:language>
  <cp:lastModifiedBy>万润仪器贸易公司</cp:lastModifiedBy>
  <dcterms:modified xsi:type="dcterms:W3CDTF">2020-08-14T09:28:48Z</dcterms:modified>
  <cp:revision>2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